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DC3-5D7D-485B-B27B-FA3DD01B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BDB-45A2-4FD8-8F4A-2D890EC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591-DBD9-4E74-A8EB-A33CDCEE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587-F9A8-46E3-8E92-7A78FBD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C70-F0EC-403C-84CD-377FD10D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7AB-3FB0-4ACC-893D-FD2CF3B5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BD9A-B4DC-47DF-9401-840848C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E7A-D47E-4468-8AC3-0F7B2EC6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E18-E49A-4B22-A0AF-E4B7FD52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737-3CB0-43A3-A9CF-C0FBBFC9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AEB-7624-466E-966A-FB220A9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401-2B99-469A-9B70-D22F80C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BC4-7D03-49CA-816C-A4816B0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1E1-119E-47AE-B9EF-399E85C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7F1-C9CF-42EA-A596-65A6304A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7D0-4807-4961-A943-2DC3A02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2997-E384-424E-B3B2-17D649DD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C0A-5ADB-4C87-A210-EDF3837E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03D-4CCC-44E6-B924-167989FB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2EC-EA9A-48F8-A998-7D49FA3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76B-3DC5-4B15-A9E1-63A598D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866-FDB8-46B3-999E-42DF239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A0D-8CCA-4151-8167-5CB6978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705-A92E-499B-8237-BE694C8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9DB-CFB4-439C-AD8E-DB806CB2120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D45-1918-4763-A0E2-C992119A98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cozeehome.com/images/Faux-Painting-Tips-lg.jpg&amp;imgrefurl=http://www.cozeehome.com/WallDecor/Faux-Painting-Tips.php&amp;h=299&amp;w=450&amp;sz=32&amp;hl=en&amp;start=3&amp;um=1&amp;tbnid=zvYHvE5IIcynzM:&amp;tbnh=84&amp;tbnw=127&amp;prev=/images%3Fq%3Dsponge%2Bpainting%2Bfaux%2Bfinishes%26um%3D1%26hl%3Den%26safe%3Dactiv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ndysfantasyfinishes.com/images/gallery/cascade_sponge.jpg&amp;imgrefurl=http://www.andysfantasyfinishes.com/gallery.htm&amp;h=700&amp;w=464&amp;sz=102&amp;hl=en&amp;start=18&amp;um=1&amp;tbnid=VKPe9lPMs-FreM:&amp;tbnh=140&amp;tbnw=93&amp;prev=/images%3Fq%3Dsponge%2Bpainting%2Bfaux%2Bfinishes%26um%3D1%26hl%3Den%26safe%3Dactive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oyaldesignstudio.com/inspiration.php?name=Customer%20Stenciled%20Floors&amp;a=203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royaldesignstudio.com/inspiration.php?name=Customer%20Stenciled%20Furniture&amp;a=203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royaldesignstudio.com/inspiration.php?name=Customer%20Stenciled%20Walls&amp;a=203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4.04 Wall Covering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15200" y="44197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ong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371680" cy="229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828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11480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2057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g Ro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gging"/>
          <p:cNvPicPr/>
          <p:nvPr/>
        </p:nvPicPr>
        <p:blipFill>
          <a:blip r:embed="rId2"/>
          <a:stretch/>
        </p:blipFill>
        <p:spPr>
          <a:xfrm>
            <a:off x="6705720" y="274320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Wall with ragging faux finish."/>
          <p:cNvPicPr/>
          <p:nvPr/>
        </p:nvPicPr>
        <p:blipFill>
          <a:blip r:embed="rId3"/>
          <a:stretch/>
        </p:blipFill>
        <p:spPr>
          <a:xfrm>
            <a:off x="4114800" y="2666880"/>
            <a:ext cx="19051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bleiz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mpe l’oeil: illusion created by paint to “fool the eye”. Usually a 3-D sce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176720" y="3186000"/>
          <a:ext cx="7905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720" y="3186000"/>
                    <a:ext cx="7905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Art Effects' greek window Trompe l'oeil Mural"/>
          <p:cNvPicPr/>
          <p:nvPr/>
        </p:nvPicPr>
        <p:blipFill>
          <a:blip r:embed="rId3"/>
          <a:stretch/>
        </p:blipFill>
        <p:spPr>
          <a:xfrm>
            <a:off x="2057400" y="380988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ompe l’oei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7652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524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nciling: applying paint by using a cutout form to outline a design or lettering. Can be created or purchas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vary from simple to complex and may involve using several paints to achieve the proper detail or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ENCI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214720"/>
            <a:ext cx="2590920" cy="205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66688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2670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orative paper or vinyl applied to walls with glue or pas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copy any surface (brick, stone, wood, leath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murals of outdoor sce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enhance any room and create any sty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Vinyl and vinyl-coat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apers are best selling papers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are washable, water and stain resis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IN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est and least expensive way to cover a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iest way to change the look of a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choosing a paint, choose a color slightly LIGHTER the color you wa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ialty 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il: reflects light to make small rooms appear lar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bossed: have a raised surface area as part of design, more formal lo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fabrics or natural fib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ntable: has raised texture and can be painted on once on the wall. Good to cover uneven wa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ly treated papers are used in commercial sett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t meet government standards for flammability, wear, resistance to staining, and ease of clea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lcul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allon of pai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enerally covers 350 square feet of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calculate pain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+L+W+W x ceiling height / 350 = g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+2+30+30 X 8 = 672/350= 2 g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ne roll of wallpap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vers 36 fee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+L+W+W x ceiling height /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+12+30+30 x 8 = 672/36= 18.67 =19 r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using Decisions  pages 316-32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s and Interiors   pages 588-562, 457-45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pyright ©2007, ABCD, All rights reser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Pai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ater-based or late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easy to apply and dries quickly, does not adhere (stick) to some surfaces, such as bare w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ean-up is easy with soap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ed to be environmentally saf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vent-based may be oil or synthetic resin call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LKY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kyd dries more quickly than oil based paints, does not contain le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urable and washable surfa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good for walls and ceilings of kitchens, bath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eral spirits used for clean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Pai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name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have the most gloss, have protective and decorative fin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kitchens, baths, wood trim, window sills, mason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emi-glo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have less gloss and are slightly less durable than enam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same places as enam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atin or eggshe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ish: have a slight sheen and used mostly on wa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ghtly less durable than semi-g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lat finis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no gloss and give a soft finish to walls and ceil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not be used in kitchens/baths or window sills or wood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the least expensive type of pai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difficult to cle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int Technique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ux Finish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nging: sponge is dipped into paint and dabbed onto wall to add patte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gging/Rag Rolling: paint is applied by adding paint to pieces of rag and then applied to wall by rolling 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bleizing: wall treatment created to resemble marble st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3:53:59Z</dcterms:created>
  <dc:creator> sherry brooks</dc:creator>
  <dc:description/>
  <dc:language>en-US</dc:language>
  <cp:lastModifiedBy>s.brooks</cp:lastModifiedBy>
  <dcterms:modified xsi:type="dcterms:W3CDTF">2008-02-28T19:08:52Z</dcterms:modified>
  <cp:revision>17</cp:revision>
  <dc:subject/>
  <dc:title>4.04 Wall Coverings</dc:title>
</cp:coreProperties>
</file>